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4D79-BF9D-48B1-BE38-769461496B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180-AE32-466C-9A29-B2246404AD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74E6-BF2B-41B9-B29A-BD755F6BEE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90F-E290-4BCC-9795-F6856BC157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EE38-601B-4BAA-B7EB-90C078A93C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151-C612-4E35-8960-F16CAC2A11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5B58-17A6-4126-AC3C-31EAB7BB4A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8CA-C0F0-4556-AFC8-42A416D6E1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65D7-CA4B-4930-A0FD-47A4232BC4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EA7-068F-4382-94EB-7AB73A53C0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F5AD-9E61-4509-92A7-02CA58B7F6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75E-DCB4-4FB1-BDE8-FD45D8A8C6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89000" y="69372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3769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347B-C732-4F80-83D5-C8D168C4D2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468B-AED6-4807-8EE1-72CD93C365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4EA-E24A-4CFC-B9DA-EB9F3AF9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77B-5F62-4578-877D-6A91485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94F-D4C2-485C-BA10-0079473E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DBD-71EF-436D-8F54-502E3D69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ECF2-60EE-4317-977E-76E6F98C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6F4A-3A9A-44A0-8ABE-D5A0414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5AA3-794A-40E4-9425-3DFE4A6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927E-071D-4A8A-8661-295CBB2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4EC2-38E5-4440-8691-598F2B8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EF1D-E1EA-44C9-8580-8771DE37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DF3-41C7-424E-BF9E-723FD4F5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D95-E912-41C2-A5DF-4A827EA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D6D1-FA84-4F63-A59C-53C81AF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25A0-737A-463E-A20B-2CC2D5A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3D40-CA6B-498B-AF77-C75542F8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4456-BEB8-4E60-A432-4BB5DF2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591-68A1-425B-B86A-E241B094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0C8-61DE-4787-BCFA-4021745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AB6-095F-4629-A4A2-0D391798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F29-068C-4A00-A5F0-03789D53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1C8-E7D4-4926-B9E8-48C45608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CAA-EA03-4EB7-B47C-27235DE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5BB-565B-483A-9B48-C10CB1C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9B6-0E33-4706-9DD3-009E3407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36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011-FA98-42E1-87A6-CCAB40A4B52D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Logotipo 1 tinta baja RGB"/>
          <p:cNvPicPr/>
          <p:nvPr/>
        </p:nvPicPr>
        <p:blipFill>
          <a:blip r:embed="rId3"/>
          <a:stretch/>
        </p:blipFill>
        <p:spPr>
          <a:xfrm>
            <a:off x="0" y="6167520"/>
            <a:ext cx="1015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86D-2CFF-498E-81CA-DC5CF6A60D3B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9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070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0" y="1371600"/>
            <a:ext cx="399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00"/>
                </a:solidFill>
                <a:latin typeface="Tahoma"/>
              </a:rPr>
              <a:t>Plan CEI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00"/>
                </a:solidFill>
                <a:latin typeface="Tahoma"/>
              </a:rPr>
              <a:t>One Laptop per Child and per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0" y="6035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iguel Brechner Kigali June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2" descr="Logotipo_PLAN_CEIBAL_CMYK_alta"/>
          <p:cNvPicPr/>
          <p:nvPr/>
        </p:nvPicPr>
        <p:blipFill>
          <a:blip r:embed="rId2"/>
          <a:stretch/>
        </p:blipFill>
        <p:spPr>
          <a:xfrm>
            <a:off x="0" y="0"/>
            <a:ext cx="100800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10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omes with computers will grow by 220.000 (20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alf ot them belong to the poorest 20%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chool attendance has grown, and class repetition has diminished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High motivation of teacher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rents participate actively in the School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pportunities for the development in music, video, photograpy, programming, that without Ceibal would be almos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957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s are shown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al Opportunities for the future. New individu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ho should implement it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urage is needed to do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ery year we dont do it, thousands of kids loose their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f we dont do it know, when should we do it??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27"/>
          <p:cNvSpPr/>
          <p:nvPr/>
        </p:nvSpPr>
        <p:spPr>
          <a:xfrm>
            <a:off x="17928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28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SC00460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2462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Imag"/>
          <p:cNvPicPr/>
          <p:nvPr/>
        </p:nvPicPr>
        <p:blipFill>
          <a:blip r:embed="rId1"/>
          <a:stretch/>
        </p:blipFill>
        <p:spPr>
          <a:xfrm>
            <a:off x="250920" y="1268280"/>
            <a:ext cx="2017440" cy="1516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"/>
          <p:cNvPicPr/>
          <p:nvPr/>
        </p:nvPicPr>
        <p:blipFill>
          <a:blip r:embed="rId2"/>
          <a:stretch/>
        </p:blipFill>
        <p:spPr>
          <a:xfrm>
            <a:off x="2644920" y="1268280"/>
            <a:ext cx="1998360" cy="1500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00_6783_DCE"/>
          <p:cNvPicPr/>
          <p:nvPr/>
        </p:nvPicPr>
        <p:blipFill>
          <a:blip r:embed="rId3"/>
          <a:stretch/>
        </p:blipFill>
        <p:spPr>
          <a:xfrm>
            <a:off x="6877080" y="464508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0_6781_DCE"/>
          <p:cNvPicPr/>
          <p:nvPr/>
        </p:nvPicPr>
        <p:blipFill>
          <a:blip r:embed="rId4"/>
          <a:stretch/>
        </p:blipFill>
        <p:spPr>
          <a:xfrm>
            <a:off x="250920" y="2924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00_6745_DCE"/>
          <p:cNvPicPr/>
          <p:nvPr/>
        </p:nvPicPr>
        <p:blipFill>
          <a:blip r:embed="rId5"/>
          <a:stretch/>
        </p:blipFill>
        <p:spPr>
          <a:xfrm>
            <a:off x="250920" y="4599000"/>
            <a:ext cx="201744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00_6747_DCE"/>
          <p:cNvPicPr/>
          <p:nvPr/>
        </p:nvPicPr>
        <p:blipFill>
          <a:blip r:embed="rId6"/>
          <a:stretch/>
        </p:blipFill>
        <p:spPr>
          <a:xfrm>
            <a:off x="4788000" y="1322280"/>
            <a:ext cx="1942920" cy="145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100_6749_DCE"/>
          <p:cNvPicPr/>
          <p:nvPr/>
        </p:nvPicPr>
        <p:blipFill>
          <a:blip r:embed="rId7"/>
          <a:stretch/>
        </p:blipFill>
        <p:spPr>
          <a:xfrm>
            <a:off x="2627280" y="2924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100_6693"/>
          <p:cNvPicPr/>
          <p:nvPr/>
        </p:nvPicPr>
        <p:blipFill>
          <a:blip r:embed="rId8"/>
          <a:stretch/>
        </p:blipFill>
        <p:spPr>
          <a:xfrm>
            <a:off x="2484360" y="459900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00_6776_DCE"/>
          <p:cNvPicPr/>
          <p:nvPr/>
        </p:nvPicPr>
        <p:blipFill>
          <a:blip r:embed="rId9"/>
          <a:stretch/>
        </p:blipFill>
        <p:spPr>
          <a:xfrm>
            <a:off x="6877080" y="126828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100_6782_DCE"/>
          <p:cNvPicPr/>
          <p:nvPr/>
        </p:nvPicPr>
        <p:blipFill>
          <a:blip r:embed="rId10"/>
          <a:stretch/>
        </p:blipFill>
        <p:spPr>
          <a:xfrm>
            <a:off x="4788000" y="2924280"/>
            <a:ext cx="2017440" cy="151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00_6759_DCE"/>
          <p:cNvPicPr/>
          <p:nvPr/>
        </p:nvPicPr>
        <p:blipFill>
          <a:blip r:embed="rId11"/>
          <a:stretch/>
        </p:blipFill>
        <p:spPr>
          <a:xfrm>
            <a:off x="7093080" y="2997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100_6680"/>
          <p:cNvPicPr/>
          <p:nvPr/>
        </p:nvPicPr>
        <p:blipFill>
          <a:blip r:embed="rId12"/>
          <a:stretch/>
        </p:blipFill>
        <p:spPr>
          <a:xfrm>
            <a:off x="4643280" y="454500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"/>
          <p:cNvPicPr/>
          <p:nvPr/>
        </p:nvPicPr>
        <p:blipFill>
          <a:blip r:embed="rId1"/>
          <a:stretch/>
        </p:blipFill>
        <p:spPr>
          <a:xfrm>
            <a:off x="6858000" y="5181480"/>
            <a:ext cx="1908000" cy="1392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marL="29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he Thre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I am not for myself, who will be for 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I am only for myself, what am 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If not now, when?"</a:t>
            </a:r>
            <a:r>
              <a:rPr b="0" lang="en-US" sz="2400" spc="-1" strike="noStrike" u="sng" baseline="30000">
                <a:solidFill>
                  <a:srgbClr val="e5d093"/>
                </a:solidFill>
                <a:uFillTx/>
                <a:latin typeface="-webkit-sans-serif"/>
                <a:hlinkClick r:id="rId2" action="ppaction://hlinksldjump"/>
              </a:rPr>
              <a:t>[2]</a:t>
            </a:r>
            <a:r>
              <a:rPr b="0" lang="en-US" sz="2400" spc="-1" strike="noStrike">
                <a:solidFill>
                  <a:srgbClr val="000000"/>
                </a:solidFill>
                <a:latin typeface="-webkit-sans-serif"/>
              </a:rPr>
              <a:t>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abbi Hillel , year 1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When will our societies be prepared for any school child of today to be an Engineer or Doctor in 2029, and a President in 2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consejo de ministros"/>
          <p:cNvPicPr/>
          <p:nvPr/>
        </p:nvPicPr>
        <p:blipFill>
          <a:blip r:embed="rId3"/>
          <a:stretch/>
        </p:blipFill>
        <p:spPr>
          <a:xfrm>
            <a:off x="0" y="5334120"/>
            <a:ext cx="21607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CEI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ta of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pulation 3.3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ze 173.000 K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vidided in 19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0% Urban 20%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ry strong Public School (85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fabetization 97%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tal number of benefici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children and teachers)   3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atin_America"/>
          <p:cNvPicPr/>
          <p:nvPr/>
        </p:nvPicPr>
        <p:blipFill>
          <a:blip r:embed="rId1"/>
          <a:stretch/>
        </p:blipFill>
        <p:spPr>
          <a:xfrm>
            <a:off x="6202440" y="3284640"/>
            <a:ext cx="294156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mag"/>
          <p:cNvPicPr/>
          <p:nvPr/>
        </p:nvPicPr>
        <p:blipFill>
          <a:blip r:embed="rId1"/>
          <a:stretch/>
        </p:blipFill>
        <p:spPr>
          <a:xfrm>
            <a:off x="7236000" y="5465880"/>
            <a:ext cx="1908000" cy="139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31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llars of Plan Cei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All Children &amp;Teachers in Public School get a 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ew tools for learning , new contents, new forms of education. Teachers teach and learn, Kids teach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chnology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Wireless Internet Connection in Schools, Public Places and many homes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mitment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trong leadership of President Vazquez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We will not only reduce the gap of the Digital Divide, but more important we need to eliminate the Knowledge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onsejo de ministros"/>
          <p:cNvPicPr/>
          <p:nvPr/>
        </p:nvPicPr>
        <p:blipFill>
          <a:blip r:embed="rId2"/>
          <a:stretch/>
        </p:blipFill>
        <p:spPr>
          <a:xfrm>
            <a:off x="0" y="5538960"/>
            <a:ext cx="216072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789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sur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qual access to information an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the learning and education opportun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hiev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ocial i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ves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in human capital to position Uruguay as a leader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ustainability after 2009 (0.1% G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d people empowern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DSC04304"/>
          <p:cNvPicPr/>
          <p:nvPr/>
        </p:nvPicPr>
        <p:blipFill>
          <a:blip r:embed="rId1"/>
          <a:srcRect l="4648" t="27283" r="0" b="0"/>
          <a:stretch/>
        </p:blipFill>
        <p:spPr>
          <a:xfrm>
            <a:off x="0" y="5376960"/>
            <a:ext cx="2592360" cy="14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00_6759_DCE"/>
          <p:cNvPicPr/>
          <p:nvPr/>
        </p:nvPicPr>
        <p:blipFill>
          <a:blip r:embed="rId2"/>
          <a:stretch/>
        </p:blipFill>
        <p:spPr>
          <a:xfrm>
            <a:off x="7164360" y="5372280"/>
            <a:ext cx="1979640" cy="148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225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 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lot Ma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vered until today 225.000 laptops, 1.250 servers, connectiity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 be delivered 2009, 165.000 laptops, 1000 severs, full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nectivity 300 mts maximum walk for internet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lle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chnology Indepen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acher Training and delivery of noteb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er and Schoo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ildre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ent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ivery of notebooks to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rranty and Tech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9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212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100_6759_DCE"/>
          <p:cNvPicPr/>
          <p:nvPr/>
        </p:nvPicPr>
        <p:blipFill>
          <a:blip r:embed="rId1"/>
          <a:stretch/>
        </p:blipFill>
        <p:spPr>
          <a:xfrm>
            <a:off x="7093080" y="5300640"/>
            <a:ext cx="187164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957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ing and training teachers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dren teach the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ents get involved and want to be tr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achers resistance is overcome once 1:1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chool is centre of life in t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laboration in all aspects is natural in I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luntary work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w learning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acher motivation empowers project and n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ays to teach flour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179280" y="1268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ve we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8"/>
          <p:cNvSpPr/>
          <p:nvPr/>
        </p:nvSpPr>
        <p:spPr>
          <a:xfrm>
            <a:off x="179280" y="225360"/>
            <a:ext cx="8569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8000"/>
                </a:solidFill>
                <a:latin typeface="Arial"/>
              </a:rPr>
              <a:t>Plan CEI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29" descr="cardal_1_tcp_ul"/>
          <p:cNvPicPr/>
          <p:nvPr/>
        </p:nvPicPr>
        <p:blipFill>
          <a:blip r:embed="rId1"/>
          <a:srcRect l="15318" t="2291" r="13140" b="7273"/>
          <a:stretch/>
        </p:blipFill>
        <p:spPr>
          <a:xfrm>
            <a:off x="6156360" y="4508640"/>
            <a:ext cx="266364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Children an 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 for search of information at school an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Pictures , Video , Music &amp;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of children interaction using C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 watching by children diminis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the Laptop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2:56:46Z</dcterms:created>
  <dc:creator>sgonzalez</dc:creator>
  <dc:description/>
  <cp:keywords/>
  <dc:language>en-US</dc:language>
  <cp:lastModifiedBy> </cp:lastModifiedBy>
  <dcterms:modified xsi:type="dcterms:W3CDTF">2009-07-06T16:44:48Z</dcterms:modified>
  <cp:revision>25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3082</vt:lpwstr>
  </property>
</Properties>
</file>